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1EB7-52E4-418F-95CA-2DA84F13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2CB-613A-4755-BD89-AAFD6239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381-BF7C-4853-9FDB-BD681643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F04-1CDD-449F-9A07-CAEBE8CC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016-0E42-4C76-94A2-6FA31B34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3C6-0310-4BC0-AD87-1D968E6D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F4DD-9F1A-4924-873C-6EAF5747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2BC1-49A6-4025-8D83-7F341A1B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A5D6-A129-417A-8F6C-13322849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76B-0ED5-4679-8F86-5AF4F488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4C37-A72A-4789-841D-0BB4F86B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4DC-36C3-4D5C-9A5F-A38A36C6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380E-7895-4FD3-8B93-D46041996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7:02:26Z</dcterms:created>
  <dc:creator>Grupo Editorial</dc:creator>
  <dc:description/>
  <dc:language>en-US</dc:language>
  <cp:lastModifiedBy>Grupo Editorial</cp:lastModifiedBy>
  <dcterms:modified xsi:type="dcterms:W3CDTF">2001-11-21T17:05:39Z</dcterms:modified>
  <cp:revision>1</cp:revision>
  <dc:subject/>
  <dc:title>Sin título de diapositiva</dc:title>
</cp:coreProperties>
</file>